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61D-F90C-4FE8-B64D-FD2B8B0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D07-04C8-4E4B-ADE3-4550F29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023-58FE-4AE8-8F11-6E1DAB46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C1A-9489-4DB4-8BBC-09E15B4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E46-9BFD-4BF8-AF34-441FF551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3D0-B316-44E7-A48E-C3E6AE7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55C-038B-4EA9-A05A-26B7429D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3DD-17C1-4ACC-8D7E-EB5AA14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7D0-85FC-493D-96BA-5392E4A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C29-08DA-4B83-9BC4-AC63915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AA8-086E-48D7-8CDE-49166D7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C20-5799-4860-9F37-91905028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CE3-F553-40D8-9E43-27464F1D9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tabase Concepts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ational No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w’s Foot No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6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vs Independ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entities may exist without relationship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uthor can exist even if no books yet written or publis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entities do not exist without relationship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ublished book cannot exist without both an Author and a Publis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ce Ru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1 relationships. Primary key for one of the tables is included as foreign key in the other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n relationships. Primary key of the table in the ’1′ side is added as foreign key in the table in the ‘n’ si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:m relationships. A new table (join table) is created. The primary key is composed of the primary keys from the two original tab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w’s Foot – Many to Man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373356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ublisher can publish many Boo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uthor can write many Boo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book has one Author and one Publis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ks_authors” is the join table for the m: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3" descr="boodb.bmp"/>
          <p:cNvPicPr/>
          <p:nvPr/>
        </p:nvPicPr>
        <p:blipFill>
          <a:blip r:embed="rId1"/>
          <a:stretch/>
        </p:blipFill>
        <p:spPr>
          <a:xfrm>
            <a:off x="392040" y="1295280"/>
            <a:ext cx="837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w’s Foot in Visi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"Microsoft Visio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"File," select "New," "Database," and then "Database Model Diagram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"Options" from the "Database" menu and then select "Documen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"Relationship" tab and set a check mark against "Relationships" and "Crow's Feet." Click the "OK" butt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more: http://www.ehow.com/how_8599356_crows-foot-notation-visio.html#ixzz33Kp0n7Q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DB Enterprise Lev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ous Quot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a collection of famous quo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quote has an author, a date, and belongs to one or more categories (such as humor or politic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author has a name and contact information (e.g. addres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can Enter, Edit, and Delete Quotes, Authors, and Categor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ntify Information Lev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ntic Objects for Famous Quo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09480" y="4572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Can we enter an Author if there are no quotes by that auth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Can we enter a Quote if there is no Author for that qu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Can we enter a Category if there are no quotes in that categ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108080" y="990720"/>
            <a:ext cx="681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s show what tasks a User perform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can be many types of Users (such as Admin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987800" y="1600200"/>
            <a:ext cx="395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705360" cy="256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n Relation Diagra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149480" y="1523880"/>
            <a:ext cx="662292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752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562720" y="3516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8"/>
          <p:cNvCxnSpPr/>
          <p:nvPr/>
        </p:nvCxnSpPr>
        <p:spPr>
          <a:xfrm flipV="1">
            <a:off x="2819520" y="2133000"/>
            <a:ext cx="457920" cy="686520"/>
          </a:xfrm>
          <a:prstGeom prst="straightConnector1">
            <a:avLst/>
          </a:prstGeom>
          <a:ln w="1908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Straight Arrow Connector 9"/>
          <p:cNvCxnSpPr/>
          <p:nvPr/>
        </p:nvCxnSpPr>
        <p:spPr>
          <a:xfrm>
            <a:off x="5866920" y="3809520"/>
            <a:ext cx="305640" cy="1220040"/>
          </a:xfrm>
          <a:prstGeom prst="straightConnector1">
            <a:avLst/>
          </a:prstGeom>
          <a:ln w="1908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n Relation Diagra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858000" cy="118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981080" y="3352680"/>
            <a:ext cx="4484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w’s Foot vs. Ch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1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w’s Foot vs Ch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05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4:26:44Z</dcterms:created>
  <dc:creator>John Wyatt</dc:creator>
  <dc:description/>
  <dc:language>en-US</dc:language>
  <cp:lastModifiedBy>John</cp:lastModifiedBy>
  <dcterms:modified xsi:type="dcterms:W3CDTF">2014-07-14T14:59:51Z</dcterms:modified>
  <cp:revision>84</cp:revision>
  <dc:subject/>
  <dc:title>Database Concepts</dc:title>
</cp:coreProperties>
</file>